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5AA9-3E5B-4BDC-B1F3-6CA5395D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F2AB-BD38-4965-B019-27687465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2CF-FE9D-494A-AD83-2C78FB2B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820-FDE7-4944-A5C6-B4301046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050-3FB7-46E5-8891-291EC466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EBB-58F8-42E6-B5CB-8CCEABD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142-4127-4730-8675-A5F1923F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295-4FD3-415D-AB94-5F70119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8DE-35E1-4979-9BCF-B5D6DA98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066-3E0C-4E3E-BCDA-DF5B3A17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C29-6324-4638-9683-E4B351AA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FC0-2ECA-4270-B420-EDEFB890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D9A-8075-4995-9035-A85A205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F44-1231-41FE-8A51-7E9FED0C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0DE-CE00-4478-B10C-F456749E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ACB5-F1A4-4988-A84A-AAB089E4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"/>
              </a:rPr>
              <a:t>Look at the painting &amp; follow the step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</a:rPr>
              <a:t>List the objects t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</a:rPr>
              <a:t>Star the objects that you think are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"/>
              </a:rPr>
              <a:t>what do the symbols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</a:rPr>
              <a:t>What do you think the over all message of the painting 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anifest_destiny"/>
          <p:cNvPicPr/>
          <p:nvPr/>
        </p:nvPicPr>
        <p:blipFill>
          <a:blip r:embed="rId1"/>
          <a:stretch/>
        </p:blipFill>
        <p:spPr>
          <a:xfrm>
            <a:off x="609480" y="169920"/>
            <a:ext cx="7772400" cy="662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-380880" y="0"/>
            <a:ext cx="103629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13:00:52Z</dcterms:created>
  <dc:creator>Microsoft Office User</dc:creator>
  <dc:description/>
  <dc:language>en-US</dc:language>
  <cp:lastModifiedBy>Microsoft Office User</cp:lastModifiedBy>
  <dcterms:modified xsi:type="dcterms:W3CDTF">2016-05-26T14:32:39Z</dcterms:modified>
  <cp:revision>1</cp:revision>
  <dc:subject/>
  <dc:title>Look at the painting &amp; follow the steps:</dc:title>
</cp:coreProperties>
</file>